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4.wmf" ContentType="image/x-wmf"/>
  <Override PartName="/ppt/media/image36.png" ContentType="image/png"/>
  <Override PartName="/ppt/media/image8.jpeg" ContentType="image/jpeg"/>
  <Override PartName="/ppt/media/image39.jpeg" ContentType="image/jpeg"/>
  <Override PartName="/ppt/media/image37.wmf" ContentType="image/x-wmf"/>
  <Override PartName="/ppt/media/image41.png" ContentType="image/png"/>
  <Override PartName="/ppt/media/image43.wmf" ContentType="image/x-wmf"/>
  <Override PartName="/ppt/media/image44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18409-E350-4F81-9E6E-9E22B0560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7EC54-7C8C-4DEF-A4D5-37275280F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BB619-53BC-4B96-B92F-6EDDF30AE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D716E-3525-4CCD-BB89-EC4C2384C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CA11D-3D4E-4455-BD63-05C0DDB3B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D508B-1D9A-4B14-B525-5D885CA4E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62F25-F624-474A-8A91-42F1FAC11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01686-E34C-4959-BA9F-B6DB7483F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26CA9-879D-48B3-AEFC-F73259A1A9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78B87-958A-4201-A650-714F3FB4F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FA8CC-D275-4D5B-9731-2EE926F67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BC8A1-F45A-4087-974E-9D36E0273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FCA51-C1BE-4F7C-9EBD-A05EACF235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5729A-69B1-43F9-BD5B-63E61E965B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58B8A-2F3E-4B0D-917A-33465180E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25A33-0127-47EC-8DD5-F402D02984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57BEB-0AB9-4F94-9EF0-54D2EDF03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15E21-A78D-4CFE-969E-8D16FC2F8B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442FE-C76A-41E3-B525-25372C2B2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80C25-8CBD-44CF-A8F8-FD4860C2E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3E359-5F8D-4AEE-9D6C-07AE0EB36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49993-DB2E-4054-A81F-A5119A541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7EFBB-4C0C-4CFD-B49D-77B6142A2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6389B-7227-41B5-BA44-766FF4393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5C062-E7DC-4B33-AD87-D430E5D08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8880A-E104-4DC4-8674-49130F998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7F1DB-037B-452E-BA8F-3B33833DD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FF430-81F4-4A1A-9BAD-5424FC23C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73917-B3E2-48A8-A90A-56C314F35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1FFF7-0515-4A78-8839-52AC53F5F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C33AF-B694-4884-828C-23F7C3B26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772BC-4862-4915-BBB3-B1D17FC7B9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0B4DF-8C8C-40A5-A746-C6E898C5E2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52513-BCF0-480F-A71B-24F124B939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8CF64-E4FF-4D3F-8DB9-19ECE70746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B1592-E0EA-4D7B-9D56-1DFFD7DDB9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26990-818B-454C-9968-8D141F0FAC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74C6D-1573-43F6-8109-F9A18EC67B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196E5-4F68-4815-9643-89D8844EDC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4B763-D470-4C5E-9CCE-4B1A1F30CA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F7E49-D896-47FA-98BD-3FED353B31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0B912-A086-44C6-907E-5810A29C1D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3C172-48AE-4AB7-8325-435E503652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12FFC-5F54-49A9-AEA1-7682A9F790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ustomer Service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17428-AD07-4FDE-868A-9C3A1D67A4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1C7AC-D433-4DA0-8FAA-CD05A59A99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hysicia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685800" y="232416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6248520" y="2324160"/>
            <a:ext cx="220968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124080" y="5486400"/>
            <a:ext cx="274320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1" name="AutoShape 7"/>
          <p:cNvCxnSpPr>
            <a:stCxn id="230" idx="0"/>
            <a:endCxn id="229" idx="2"/>
          </p:cNvCxnSpPr>
          <p:nvPr/>
        </p:nvCxnSpPr>
        <p:spPr>
          <a:xfrm flipV="1">
            <a:off x="4495680" y="3123720"/>
            <a:ext cx="2858400" cy="23630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8"/>
          <p:cNvCxnSpPr>
            <a:stCxn id="230" idx="0"/>
            <a:endCxn id="228" idx="2"/>
          </p:cNvCxnSpPr>
          <p:nvPr/>
        </p:nvCxnSpPr>
        <p:spPr>
          <a:xfrm flipH="1" flipV="1">
            <a:off x="1599480" y="3085560"/>
            <a:ext cx="289620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33" name="AutoShape 9"/>
          <p:cNvSpPr/>
          <p:nvPr/>
        </p:nvSpPr>
        <p:spPr>
          <a:xfrm>
            <a:off x="2971800" y="1447920"/>
            <a:ext cx="28954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4" name="AutoShape 10"/>
          <p:cNvCxnSpPr>
            <a:stCxn id="230" idx="0"/>
            <a:endCxn id="233" idx="2"/>
          </p:cNvCxnSpPr>
          <p:nvPr/>
        </p:nvCxnSpPr>
        <p:spPr>
          <a:xfrm flipH="1" flipV="1">
            <a:off x="4419000" y="2590200"/>
            <a:ext cx="766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AutoShape 11"/>
          <p:cNvCxnSpPr>
            <a:stCxn id="228" idx="3"/>
            <a:endCxn id="233" idx="1"/>
          </p:cNvCxnSpPr>
          <p:nvPr/>
        </p:nvCxnSpPr>
        <p:spPr>
          <a:xfrm flipV="1">
            <a:off x="2514600" y="2018520"/>
            <a:ext cx="45792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6" name="AutoShape 12"/>
          <p:cNvCxnSpPr>
            <a:stCxn id="233" idx="3"/>
            <a:endCxn id="229" idx="1"/>
          </p:cNvCxnSpPr>
          <p:nvPr/>
        </p:nvCxnSpPr>
        <p:spPr>
          <a:xfrm>
            <a:off x="5866920" y="2019240"/>
            <a:ext cx="381960" cy="705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7" name="Rectangle 13"/>
          <p:cNvSpPr/>
          <p:nvPr/>
        </p:nvSpPr>
        <p:spPr>
          <a:xfrm>
            <a:off x="2286000" y="3505320"/>
            <a:ext cx="4648320" cy="16002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Accurat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terpretabl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Timeli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0BDEB-E06B-4B17-9D6D-21527E1E86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2B4BA-7590-4A19-A36B-9D9F637E76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hysician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04920" y="2057400"/>
          <a:ext cx="8534160" cy="3733920"/>
        </p:xfrm>
        <a:graphic>
          <a:graphicData uri="http://schemas.openxmlformats.org/drawingml/2006/table">
            <a:tbl>
              <a:tblPr/>
              <a:tblGrid>
                <a:gridCol w="2590560"/>
                <a:gridCol w="3200400"/>
                <a:gridCol w="27432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re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ost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men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ection man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sition fo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etency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valid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mple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cess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currence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boratory information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s ver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pretable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te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42" name="AutoShape 47"/>
          <p:cNvSpPr/>
          <p:nvPr/>
        </p:nvSpPr>
        <p:spPr>
          <a:xfrm>
            <a:off x="762120" y="1295280"/>
            <a:ext cx="1600200" cy="685800"/>
          </a:xfrm>
          <a:prstGeom prst="pie">
            <a:avLst/>
          </a:pr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48"/>
          <p:cNvSpPr/>
          <p:nvPr/>
        </p:nvSpPr>
        <p:spPr>
          <a:xfrm>
            <a:off x="3505320" y="1295280"/>
            <a:ext cx="1752480" cy="685800"/>
          </a:xfrm>
          <a:prstGeom prst="pie">
            <a:avLst/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AutoShape 49"/>
          <p:cNvSpPr/>
          <p:nvPr/>
        </p:nvSpPr>
        <p:spPr>
          <a:xfrm>
            <a:off x="6477120" y="1295280"/>
            <a:ext cx="1676160" cy="685800"/>
          </a:xfrm>
          <a:prstGeom prst="pie">
            <a:avLst/>
          </a:pr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1F654-2742-4CC6-9ED6-87EF5B8961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66A9A-D9D5-4B0C-9BF1-246BD64DA4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1143000" y="3352680"/>
            <a:ext cx="2133720" cy="2057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mf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Priv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609480" y="1981080"/>
            <a:ext cx="21337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6400800" y="23623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3429000" y="4952880"/>
            <a:ext cx="2666880" cy="106704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3" name="AutoShape 7"/>
          <p:cNvCxnSpPr>
            <a:stCxn id="252" idx="0"/>
          </p:cNvCxnSpPr>
          <p:nvPr/>
        </p:nvCxnSpPr>
        <p:spPr>
          <a:xfrm flipV="1">
            <a:off x="4762440" y="3428280"/>
            <a:ext cx="2286720" cy="1524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AutoShape 8"/>
          <p:cNvCxnSpPr>
            <a:stCxn id="252" idx="0"/>
          </p:cNvCxnSpPr>
          <p:nvPr/>
        </p:nvCxnSpPr>
        <p:spPr>
          <a:xfrm flipH="1" flipV="1">
            <a:off x="2666160" y="2971080"/>
            <a:ext cx="2096280" cy="19818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55" name="AutoShape 9"/>
          <p:cNvSpPr/>
          <p:nvPr/>
        </p:nvSpPr>
        <p:spPr>
          <a:xfrm>
            <a:off x="3505320" y="2209680"/>
            <a:ext cx="22096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6" name="AutoShape 10"/>
          <p:cNvCxnSpPr/>
          <p:nvPr/>
        </p:nvCxnSpPr>
        <p:spPr>
          <a:xfrm flipH="1" flipV="1">
            <a:off x="4723920" y="3276360"/>
            <a:ext cx="38880" cy="167688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AutoShape 11"/>
          <p:cNvCxnSpPr>
            <a:stCxn id="250" idx="3"/>
            <a:endCxn id="255" idx="1"/>
          </p:cNvCxnSpPr>
          <p:nvPr/>
        </p:nvCxnSpPr>
        <p:spPr>
          <a:xfrm>
            <a:off x="2742840" y="2552400"/>
            <a:ext cx="762840" cy="229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8" name="AutoShape 12"/>
          <p:cNvCxnSpPr>
            <a:stCxn id="255" idx="3"/>
            <a:endCxn id="251" idx="1"/>
          </p:cNvCxnSpPr>
          <p:nvPr/>
        </p:nvCxnSpPr>
        <p:spPr>
          <a:xfrm>
            <a:off x="5714640" y="2781360"/>
            <a:ext cx="686520" cy="957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081C3-E027-407C-BE95-61C8262512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76538-01BB-4F1B-A107-D11E5C446B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atient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facil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ed and knowledgeab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identiality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enance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6324480" y="58672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CONFIDENT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12" descr="14_instructions"/>
          <p:cNvPicPr/>
          <p:nvPr/>
        </p:nvPicPr>
        <p:blipFill>
          <a:blip r:embed="rId3"/>
          <a:stretch/>
        </p:blipFill>
        <p:spPr>
          <a:xfrm rot="20064600">
            <a:off x="3885840" y="4343400"/>
            <a:ext cx="1581120" cy="212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54643-3E0B-44AD-98DF-98EFD590E7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2D4E7-4B75-49A9-A7D7-F7EEADA5F9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vide information for pati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304920" y="1219320"/>
            <a:ext cx="815328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address and location 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urs of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lingual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lingual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3023A-A99F-412B-9F1B-3D38603291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1452B-F875-4FA9-BBF9-E258776CBF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llectio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prepa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sample requi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container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al hand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343400" y="4038480"/>
            <a:ext cx="4259160" cy="2079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259092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80" name="Picture 8" descr="patient-wristband"/>
          <p:cNvPicPr/>
          <p:nvPr/>
        </p:nvPicPr>
        <p:blipFill>
          <a:blip r:embed="rId4"/>
          <a:stretch/>
        </p:blipFill>
        <p:spPr>
          <a:xfrm>
            <a:off x="7391520" y="1066680"/>
            <a:ext cx="1523880" cy="15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8EE42-319D-496F-8C35-09CC155F5F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22874-A0FD-4BED-A0B4-3909AF48A2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33520" y="5335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7d"/>
                </a:solidFill>
                <a:latin typeface="Verdana"/>
              </a:rPr>
              <a:t>Provide clean, private sample collection room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E7EEF-EBCA-4D6B-8A6C-0FF103B369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7981F-C612-443D-9424-DF12A53FDB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6553080" y="1295280"/>
            <a:ext cx="1752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blic Health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6095880" y="2324160"/>
            <a:ext cx="2362320" cy="118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3276720" y="4876920"/>
            <a:ext cx="228600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2" name="AutoShape 7"/>
          <p:cNvCxnSpPr/>
          <p:nvPr/>
        </p:nvCxnSpPr>
        <p:spPr>
          <a:xfrm flipV="1">
            <a:off x="4419720" y="3504960"/>
            <a:ext cx="16768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AutoShape 8"/>
          <p:cNvCxnSpPr>
            <a:stCxn id="291" idx="0"/>
          </p:cNvCxnSpPr>
          <p:nvPr/>
        </p:nvCxnSpPr>
        <p:spPr>
          <a:xfrm flipH="1" flipV="1">
            <a:off x="1981080" y="3047760"/>
            <a:ext cx="243900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94" name="AutoShape 9"/>
          <p:cNvSpPr/>
          <p:nvPr/>
        </p:nvSpPr>
        <p:spPr>
          <a:xfrm>
            <a:off x="358128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5" name="AutoShape 10"/>
          <p:cNvCxnSpPr>
            <a:stCxn id="291" idx="0"/>
          </p:cNvCxnSpPr>
          <p:nvPr/>
        </p:nvCxnSpPr>
        <p:spPr>
          <a:xfrm flipH="1" flipV="1">
            <a:off x="4343400" y="3199680"/>
            <a:ext cx="7668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AutoShape 11"/>
          <p:cNvCxnSpPr>
            <a:endCxn id="294" idx="1"/>
          </p:cNvCxnSpPr>
          <p:nvPr/>
        </p:nvCxnSpPr>
        <p:spPr>
          <a:xfrm flipV="1">
            <a:off x="2514240" y="2704680"/>
            <a:ext cx="106740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7" name="AutoShape 12"/>
          <p:cNvCxnSpPr>
            <a:stCxn id="294" idx="3"/>
            <a:endCxn id="290" idx="1"/>
          </p:cNvCxnSpPr>
          <p:nvPr/>
        </p:nvCxnSpPr>
        <p:spPr>
          <a:xfrm>
            <a:off x="5409720" y="2705040"/>
            <a:ext cx="686520" cy="210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8" name="Rectangle 13"/>
          <p:cNvSpPr/>
          <p:nvPr/>
        </p:nvSpPr>
        <p:spPr>
          <a:xfrm>
            <a:off x="6095880" y="3733920"/>
            <a:ext cx="2286000" cy="24382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ntai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08F83-D2A4-4E0A-953C-81329838CD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78AB6-316C-4735-AF92-5DFE094870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1" name="Diagram 8"/>
          <p:cNvGrpSpPr/>
          <p:nvPr/>
        </p:nvGrpSpPr>
        <p:grpSpPr>
          <a:xfrm>
            <a:off x="954360" y="1066680"/>
            <a:ext cx="7386840" cy="5330160"/>
            <a:chOff x="954360" y="1066680"/>
            <a:chExt cx="7386840" cy="5330160"/>
          </a:xfrm>
        </p:grpSpPr>
        <p:sp>
          <p:nvSpPr>
            <p:cNvPr id="302" name="_s1028"/>
            <p:cNvSpPr/>
            <p:nvPr/>
          </p:nvSpPr>
          <p:spPr>
            <a:xfrm flipH="1" flipV="1">
              <a:off x="2869920" y="306432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_s1029"/>
            <p:cNvSpPr/>
            <p:nvPr/>
          </p:nvSpPr>
          <p:spPr>
            <a:xfrm>
              <a:off x="954360" y="2064240"/>
              <a:ext cx="2053080" cy="13327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aste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_s1030"/>
            <p:cNvSpPr/>
            <p:nvPr/>
          </p:nvSpPr>
          <p:spPr>
            <a:xfrm flipH="1">
              <a:off x="286992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_s1031"/>
            <p:cNvSpPr/>
            <p:nvPr/>
          </p:nvSpPr>
          <p:spPr>
            <a:xfrm>
              <a:off x="954360" y="4064040"/>
              <a:ext cx="2053080" cy="1332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ransport of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dangerou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good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_s1032"/>
            <p:cNvSpPr/>
            <p:nvPr/>
          </p:nvSpPr>
          <p:spPr>
            <a:xfrm>
              <a:off x="4647600" y="4397040"/>
              <a:ext cx="0" cy="6667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_s1033"/>
            <p:cNvSpPr/>
            <p:nvPr/>
          </p:nvSpPr>
          <p:spPr>
            <a:xfrm>
              <a:off x="3621600" y="5063760"/>
              <a:ext cx="205236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tain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_s1034"/>
            <p:cNvSpPr/>
            <p:nvPr/>
          </p:nvSpPr>
          <p:spPr>
            <a:xfrm>
              <a:off x="553716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_s1035"/>
            <p:cNvSpPr/>
            <p:nvPr/>
          </p:nvSpPr>
          <p:spPr>
            <a:xfrm>
              <a:off x="6288120" y="4064040"/>
              <a:ext cx="2053080" cy="1332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_s1036"/>
            <p:cNvSpPr/>
            <p:nvPr/>
          </p:nvSpPr>
          <p:spPr>
            <a:xfrm flipV="1">
              <a:off x="5537160" y="3066120"/>
              <a:ext cx="888480" cy="333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_s1037"/>
            <p:cNvSpPr/>
            <p:nvPr/>
          </p:nvSpPr>
          <p:spPr>
            <a:xfrm>
              <a:off x="6288120" y="2066400"/>
              <a:ext cx="2053080" cy="13330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afe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_s1038"/>
            <p:cNvSpPr/>
            <p:nvPr/>
          </p:nvSpPr>
          <p:spPr>
            <a:xfrm flipV="1">
              <a:off x="4647600" y="2399400"/>
              <a:ext cx="0" cy="66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_s1039"/>
            <p:cNvSpPr/>
            <p:nvPr/>
          </p:nvSpPr>
          <p:spPr>
            <a:xfrm>
              <a:off x="3621600" y="1066680"/>
              <a:ext cx="2052360" cy="13330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mmunicabl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disease alert,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urveillance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nd respons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_s1040"/>
            <p:cNvSpPr/>
            <p:nvPr/>
          </p:nvSpPr>
          <p:spPr>
            <a:xfrm>
              <a:off x="3621600" y="3066120"/>
              <a:ext cx="2052360" cy="13330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5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eting the Community, Public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26"/>
          <p:cNvSpPr/>
          <p:nvPr/>
        </p:nvSpPr>
        <p:spPr>
          <a:xfrm>
            <a:off x="3429000" y="2743200"/>
            <a:ext cx="2666880" cy="18788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31FCE-87A3-4F1D-8CA7-84772FFBAF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55EDF-4B81-4090-8B21-B4F5143798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762120" y="1523880"/>
            <a:ext cx="7619760" cy="119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aboratory inspected and accredited to high standar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22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23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4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comic"/>
                  <a:ea typeface="comic"/>
                </a:endParaRPr>
              </a:p>
            </p:txBody>
          </p:sp>
        </p:grpSp>
        <p:sp>
          <p:nvSpPr>
            <p:cNvPr id="325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4"/>
            <p:cNvSpPr/>
            <p:nvPr/>
          </p:nvSpPr>
          <p:spPr>
            <a:xfrm>
              <a:off x="1847520" y="474660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7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29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30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1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comic"/>
                  <a:ea typeface="comic"/>
                </a:endParaRPr>
              </a:p>
            </p:txBody>
          </p:sp>
        </p:grpSp>
        <p:sp>
          <p:nvSpPr>
            <p:cNvPr id="332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Text Box 21"/>
            <p:cNvSpPr/>
            <p:nvPr/>
          </p:nvSpPr>
          <p:spPr>
            <a:xfrm>
              <a:off x="4934160" y="4772880"/>
              <a:ext cx="27795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INTAINED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4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1D1FD-6B3E-41B8-B3EB-84BE595A93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31535-496B-45CE-8085-57F06966E7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gnize the variety of laboratory customer grou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 methods to measure customer satisfa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problems that may develop with custom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ggest solutions for customer service proble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how quality management processes help the laboratory meet customer group needs and require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17DAC-5E4D-41B0-8E8D-8AA3AF778A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28211-DC31-4BA5-B408-9798317F93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ood customer service provides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807696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for best patient c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to improve surveill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image of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ustomer service is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integral part of 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ED738-231A-494A-8D9E-934ADDB07E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AF368-091B-45A5-BCBE-C04B6926B6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thods for Assessing Customer Satisfac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43" name="Diagram 5"/>
          <p:cNvGrpSpPr/>
          <p:nvPr/>
        </p:nvGrpSpPr>
        <p:grpSpPr>
          <a:xfrm>
            <a:off x="807120" y="1339920"/>
            <a:ext cx="7452720" cy="4906080"/>
            <a:chOff x="807120" y="1339920"/>
            <a:chExt cx="7452720" cy="4906080"/>
          </a:xfrm>
        </p:grpSpPr>
        <p:sp>
          <p:nvSpPr>
            <p:cNvPr id="344" name="_s2052"/>
            <p:cNvSpPr/>
            <p:nvPr/>
          </p:nvSpPr>
          <p:spPr>
            <a:xfrm flipH="1" flipV="1">
              <a:off x="2739600" y="317808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_s2053"/>
            <p:cNvSpPr/>
            <p:nvPr/>
          </p:nvSpPr>
          <p:spPr>
            <a:xfrm>
              <a:off x="807120" y="225828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interviews,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focus group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_s2054"/>
            <p:cNvSpPr/>
            <p:nvPr/>
          </p:nvSpPr>
          <p:spPr>
            <a:xfrm flipH="1">
              <a:off x="2739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_s2055"/>
            <p:cNvSpPr/>
            <p:nvPr/>
          </p:nvSpPr>
          <p:spPr>
            <a:xfrm>
              <a:off x="80712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atisfaction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urvey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_s2056"/>
            <p:cNvSpPr/>
            <p:nvPr/>
          </p:nvSpPr>
          <p:spPr>
            <a:xfrm>
              <a:off x="4533480" y="4405320"/>
              <a:ext cx="0" cy="61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_s2057"/>
            <p:cNvSpPr/>
            <p:nvPr/>
          </p:nvSpPr>
          <p:spPr>
            <a:xfrm>
              <a:off x="3498120" y="50191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review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_s2058"/>
            <p:cNvSpPr/>
            <p:nvPr/>
          </p:nvSpPr>
          <p:spPr>
            <a:xfrm>
              <a:off x="5430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_s2059"/>
            <p:cNvSpPr/>
            <p:nvPr/>
          </p:nvSpPr>
          <p:spPr>
            <a:xfrm>
              <a:off x="618840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ternal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audi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_s2060"/>
            <p:cNvSpPr/>
            <p:nvPr/>
          </p:nvSpPr>
          <p:spPr>
            <a:xfrm flipV="1">
              <a:off x="5430600" y="3180240"/>
              <a:ext cx="896400" cy="30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_s2061"/>
            <p:cNvSpPr/>
            <p:nvPr/>
          </p:nvSpPr>
          <p:spPr>
            <a:xfrm>
              <a:off x="6188400" y="2260080"/>
              <a:ext cx="207144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quality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dicator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_s2062"/>
            <p:cNvSpPr/>
            <p:nvPr/>
          </p:nvSpPr>
          <p:spPr>
            <a:xfrm flipV="1">
              <a:off x="4533480" y="2566800"/>
              <a:ext cx="0" cy="6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_s2063"/>
            <p:cNvSpPr/>
            <p:nvPr/>
          </p:nvSpPr>
          <p:spPr>
            <a:xfrm>
              <a:off x="3498120" y="13399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complaint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monitoring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_s2064"/>
            <p:cNvSpPr/>
            <p:nvPr/>
          </p:nvSpPr>
          <p:spPr>
            <a:xfrm>
              <a:off x="3498120" y="318024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MONITOR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0F0D1-F96E-4572-9B1B-3E4B6B0544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56566-B153-4D1B-BBF3-9062106472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9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eived complaints may reflect only the “Tip of the Iceberg”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1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09D47-D58E-440C-82AB-E40D14E956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5137A-77A5-48D5-9483-CEB8C7FCEC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4038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lai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52280" y="2590560"/>
            <a:ext cx="3657600" cy="17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Actual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dissatisfied customers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AutoShape 10"/>
          <p:cNvSpPr/>
          <p:nvPr/>
        </p:nvSpPr>
        <p:spPr>
          <a:xfrm rot="5400000">
            <a:off x="2628720" y="2705040"/>
            <a:ext cx="3809880" cy="266688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2BB06-7105-4ED8-BB62-213926CE23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sessment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AutoShape 14"/>
          <p:cNvSpPr/>
          <p:nvPr/>
        </p:nvSpPr>
        <p:spPr>
          <a:xfrm>
            <a:off x="914400" y="114300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indic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AutoShape 16"/>
          <p:cNvSpPr/>
          <p:nvPr/>
        </p:nvSpPr>
        <p:spPr>
          <a:xfrm>
            <a:off x="5334120" y="838080"/>
            <a:ext cx="3352680" cy="2210040"/>
          </a:xfrm>
          <a:prstGeom prst="hexagon">
            <a:avLst>
              <a:gd name="adj" fmla="val 37926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5715000" y="137160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nducting internal aud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AutoShape 21"/>
          <p:cNvSpPr/>
          <p:nvPr/>
        </p:nvSpPr>
        <p:spPr>
          <a:xfrm rot="4216800">
            <a:off x="2411280" y="2452320"/>
            <a:ext cx="1444680" cy="99072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AutoShape 22"/>
          <p:cNvSpPr/>
          <p:nvPr/>
        </p:nvSpPr>
        <p:spPr>
          <a:xfrm rot="6607200">
            <a:off x="4489560" y="2439000"/>
            <a:ext cx="1452600" cy="99036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AutoShape 23"/>
          <p:cNvSpPr/>
          <p:nvPr/>
        </p:nvSpPr>
        <p:spPr>
          <a:xfrm>
            <a:off x="1981080" y="3657600"/>
            <a:ext cx="4724640" cy="2133720"/>
          </a:xfrm>
          <a:prstGeom prst="downArrowCallout">
            <a:avLst>
              <a:gd name="adj1" fmla="val 55362"/>
              <a:gd name="adj2" fmla="val 55357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Text Box 24"/>
          <p:cNvSpPr/>
          <p:nvPr/>
        </p:nvSpPr>
        <p:spPr>
          <a:xfrm>
            <a:off x="2286000" y="388620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viewing b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 Box 25"/>
          <p:cNvSpPr/>
          <p:nvPr/>
        </p:nvSpPr>
        <p:spPr>
          <a:xfrm>
            <a:off x="3733920" y="5257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A8277-943E-453A-ADE1-C7611FF47A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453BE-3B5F-4D5C-B699-95C6B18B1D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152280" y="990720"/>
            <a:ext cx="464832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stomer surveys are a requirement of quality management system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ISO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customer_service_form"/>
          <p:cNvPicPr/>
          <p:nvPr/>
        </p:nvPicPr>
        <p:blipFill>
          <a:blip r:embed="rId1"/>
          <a:srcRect l="11760" t="1818" r="11760" b="11818"/>
          <a:stretch/>
        </p:blipFill>
        <p:spPr>
          <a:xfrm>
            <a:off x="4876920" y="609480"/>
            <a:ext cx="3781440" cy="552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B4F3B-DBF8-43E8-B40A-0883D0AD18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9E1A6-E190-460F-9181-FD57482964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ustomer Survey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9" name="Diagram 5"/>
          <p:cNvGrpSpPr/>
          <p:nvPr/>
        </p:nvGrpSpPr>
        <p:grpSpPr>
          <a:xfrm>
            <a:off x="757800" y="1295280"/>
            <a:ext cx="7553880" cy="4525920"/>
            <a:chOff x="757800" y="1295280"/>
            <a:chExt cx="7553880" cy="4525920"/>
          </a:xfrm>
        </p:grpSpPr>
        <p:sp>
          <p:nvSpPr>
            <p:cNvPr id="390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analyzed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in a timely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manner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_s3079"/>
            <p:cNvSpPr/>
            <p:nvPr/>
          </p:nvSpPr>
          <p:spPr>
            <a:xfrm>
              <a:off x="1821960" y="4600080"/>
              <a:ext cx="196128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no leading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questions,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unbias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_s3081"/>
            <p:cNvSpPr/>
            <p:nvPr/>
          </p:nvSpPr>
          <p:spPr>
            <a:xfrm>
              <a:off x="5279760" y="4601880"/>
              <a:ext cx="196128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e-test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_s3083"/>
            <p:cNvSpPr/>
            <p:nvPr/>
          </p:nvSpPr>
          <p:spPr>
            <a:xfrm>
              <a:off x="6350400" y="2558160"/>
              <a:ext cx="196128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organiz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_s3085"/>
            <p:cNvSpPr/>
            <p:nvPr/>
          </p:nvSpPr>
          <p:spPr>
            <a:xfrm>
              <a:off x="3553200" y="1295280"/>
              <a:ext cx="1960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lann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1" name="Text Box 19"/>
          <p:cNvSpPr/>
          <p:nvPr/>
        </p:nvSpPr>
        <p:spPr>
          <a:xfrm>
            <a:off x="3276720" y="2819520"/>
            <a:ext cx="2666880" cy="179964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ccessfu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rvey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D7B4B-48B5-4B02-A51F-AD5FC84179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C04B6-136A-4488-9DA4-92B6494806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rvey Interview Ti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70866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out questions in adv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k specific questions and an open-ended ques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honest feedba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Picture 9" descr="MCj02955670000[1]"/>
          <p:cNvPicPr/>
          <p:nvPr/>
        </p:nvPicPr>
        <p:blipFill>
          <a:blip r:embed="rId1"/>
          <a:stretch/>
        </p:blipFill>
        <p:spPr>
          <a:xfrm>
            <a:off x="6431040" y="2819520"/>
            <a:ext cx="2712960" cy="342900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762120" y="342900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w could the laboratory improve its service to you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7ED88-F31A-486B-84F5-1A99114090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ocus grou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conducting focu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discussions, conside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small groups of 8-10 peo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ing people with diverse backgrounds and laboratory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rt by asking questions that build tr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focus group guide for consistency between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sk only open-ended question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—not “yes or no”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2" name="Picture 9" descr="MCPE02097_0000[1]"/>
          <p:cNvPicPr/>
          <p:nvPr/>
        </p:nvPicPr>
        <p:blipFill>
          <a:blip r:embed="rId1"/>
          <a:srcRect l="0" t="0" r="10556" b="60631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A9C28-3831-4B9B-A421-1C2D74A162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5B11A-1C9A-4503-9750-EF94C320F4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easuring Customer Satisfaction: Opportunity for Impro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609480" y="1676520"/>
            <a:ext cx="800100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urveys, indicators, audi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2895480" y="3352680"/>
            <a:ext cx="320040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form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Process improveme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0B05C-4455-4B70-8350-1E06DB298A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0705A-CB78-4849-8273-18D1D268B4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A few of your customers have complained about long delays in reporting HIV test results. You have confirmed that the delay is unreasonable and you solved the probl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How can you restore confidence with your customer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7BAE0-3A0A-4F2B-BECB-E8D2DFB055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6830B-D06C-424F-A1D1-3B199B61CC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 activ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ensures laboratories mee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ll cli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6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7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8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FDC9D-0CF7-434B-9240-34CBFC9A28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28662-DC6C-4F77-8737-04914DCA44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stomer service is an integral part of a quality management system. It is important for the laboratory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ve commitment to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planning and monito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 and understand clients and their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resources for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eting customer needs is a primary goal of the laborator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n active quality management system ensures laboratories meet all client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veryone in the laboratory is responsible for quality, and therefore for customer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DAC6B-6548-4498-B503-45998B6AE8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C7B93-FB72-4547-80F7-B8E15DB555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23F85-0F9A-43EB-9157-0463252987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638680" y="16002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9" name="Group 3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440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1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2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3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5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6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7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8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9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0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1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54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455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456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457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8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59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0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1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462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3" name="Text Box 74"/>
              <p:cNvSpPr/>
              <p:nvPr/>
            </p:nvSpPr>
            <p:spPr>
              <a:xfrm>
                <a:off x="22654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4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465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466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7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8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69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0" name="Group 34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471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2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3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5" name="Group 39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476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7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8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9" name="Group 43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480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1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82" name="Group 46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483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4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5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6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7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8" name="Group 52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489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0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55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492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58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495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6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09E3E-06E3-490A-B81E-3B52542E36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AF05F-5CCF-4F60-A2AE-189D914F5D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6" name="Group 5"/>
          <p:cNvGrpSpPr/>
          <p:nvPr/>
        </p:nvGrpSpPr>
        <p:grpSpPr>
          <a:xfrm>
            <a:off x="1905120" y="1143000"/>
            <a:ext cx="5105160" cy="5105520"/>
            <a:chOff x="1905120" y="1143000"/>
            <a:chExt cx="5105160" cy="5105520"/>
          </a:xfrm>
        </p:grpSpPr>
        <p:sp>
          <p:nvSpPr>
            <p:cNvPr id="127" name="AutoShape 4"/>
            <p:cNvSpPr/>
            <p:nvPr/>
          </p:nvSpPr>
          <p:spPr>
            <a:xfrm>
              <a:off x="1905120" y="1143000"/>
              <a:ext cx="5105160" cy="5105520"/>
            </a:xfrm>
            <a:custGeom>
              <a:avLst/>
              <a:gdLst>
                <a:gd name="textAreaLeft" fmla="*/ 249120 w 5105160"/>
                <a:gd name="textAreaRight" fmla="*/ 4856040 w 5105160"/>
                <a:gd name="textAreaTop" fmla="*/ 249120 h 5105520"/>
                <a:gd name="textAreaBottom" fmla="*/ 4856400 h 5105520"/>
              </a:gdLst>
              <a:ahLst/>
              <a:rect l="textAreaLeft" t="textAreaTop" r="textAreaRight" b="textAreaBottom"/>
              <a:pathLst>
                <a:path w="21600" h="21602">
                  <a:moveTo>
                    <a:pt x="3600" y="0"/>
                  </a:moveTo>
                  <a:arcTo wR="3600" hR="3600" stAng="16200000" swAng="-5400000"/>
                  <a:lnTo>
                    <a:pt x="0" y="18002"/>
                  </a:lnTo>
                  <a:arcTo wR="3600" hR="3600" stAng="10800000" swAng="-5400000"/>
                  <a:lnTo>
                    <a:pt x="18000" y="216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9"/>
            <p:cNvSpPr/>
            <p:nvPr/>
          </p:nvSpPr>
          <p:spPr>
            <a:xfrm>
              <a:off x="4116600" y="3830040"/>
              <a:ext cx="1188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3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2771640" y="3224520"/>
              <a:ext cx="16560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2760480" y="3165120"/>
              <a:ext cx="16848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 flipH="1" flipV="1">
              <a:off x="4520160" y="586800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 flipV="1">
              <a:off x="4262040" y="476208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6033960" y="177156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4457520" y="192168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2805840" y="196848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Line 27"/>
            <p:cNvSpPr/>
            <p:nvPr/>
          </p:nvSpPr>
          <p:spPr>
            <a:xfrm flipH="1">
              <a:off x="2505600" y="181692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1" name="Group 65"/>
            <p:cNvGrpSpPr/>
            <p:nvPr/>
          </p:nvGrpSpPr>
          <p:grpSpPr>
            <a:xfrm>
              <a:off x="2205000" y="1230480"/>
              <a:ext cx="1243080" cy="1122840"/>
              <a:chOff x="2205000" y="1230480"/>
              <a:chExt cx="1243080" cy="1122840"/>
            </a:xfrm>
          </p:grpSpPr>
          <p:grpSp>
            <p:nvGrpSpPr>
              <p:cNvPr id="142" name="Group 66"/>
              <p:cNvGrpSpPr/>
              <p:nvPr/>
            </p:nvGrpSpPr>
            <p:grpSpPr>
              <a:xfrm>
                <a:off x="2205000" y="1230480"/>
                <a:ext cx="1220760" cy="1122840"/>
                <a:chOff x="2205000" y="1230480"/>
                <a:chExt cx="1220760" cy="1122840"/>
              </a:xfrm>
            </p:grpSpPr>
            <p:grpSp>
              <p:nvGrpSpPr>
                <p:cNvPr id="143" name="Group 67"/>
                <p:cNvGrpSpPr/>
                <p:nvPr/>
              </p:nvGrpSpPr>
              <p:grpSpPr>
                <a:xfrm>
                  <a:off x="2255760" y="1230480"/>
                  <a:ext cx="1135440" cy="1122840"/>
                  <a:chOff x="2255760" y="1230480"/>
                  <a:chExt cx="1135440" cy="1122840"/>
                </a:xfrm>
              </p:grpSpPr>
              <p:sp>
                <p:nvSpPr>
                  <p:cNvPr id="144" name="Freeform 68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5" name="Freeform 69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6" name="Text Box 70"/>
                <p:cNvSpPr/>
                <p:nvPr/>
              </p:nvSpPr>
              <p:spPr>
                <a:xfrm>
                  <a:off x="2205000" y="1489320"/>
                  <a:ext cx="12207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7" name="Text Box 71"/>
              <p:cNvSpPr/>
              <p:nvPr/>
            </p:nvSpPr>
            <p:spPr>
              <a:xfrm>
                <a:off x="2227320" y="162864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8" name="Group 72"/>
            <p:cNvGrpSpPr/>
            <p:nvPr/>
          </p:nvGrpSpPr>
          <p:grpSpPr>
            <a:xfrm>
              <a:off x="3836520" y="1230480"/>
              <a:ext cx="1221480" cy="1122840"/>
              <a:chOff x="3836520" y="1230480"/>
              <a:chExt cx="1221480" cy="1122840"/>
            </a:xfrm>
          </p:grpSpPr>
          <p:sp>
            <p:nvSpPr>
              <p:cNvPr id="149" name="Freeform 73"/>
              <p:cNvSpPr/>
              <p:nvPr/>
            </p:nvSpPr>
            <p:spPr>
              <a:xfrm>
                <a:off x="3876840" y="1230480"/>
                <a:ext cx="113616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Text Box 74"/>
              <p:cNvSpPr/>
              <p:nvPr/>
            </p:nvSpPr>
            <p:spPr>
              <a:xfrm>
                <a:off x="3836520" y="1628640"/>
                <a:ext cx="122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1" name="Group 75"/>
            <p:cNvGrpSpPr/>
            <p:nvPr/>
          </p:nvGrpSpPr>
          <p:grpSpPr>
            <a:xfrm>
              <a:off x="5413320" y="1230480"/>
              <a:ext cx="1221480" cy="1122840"/>
              <a:chOff x="5413320" y="1230480"/>
              <a:chExt cx="1221480" cy="1122840"/>
            </a:xfrm>
          </p:grpSpPr>
          <p:grpSp>
            <p:nvGrpSpPr>
              <p:cNvPr id="152" name="Group 76"/>
              <p:cNvGrpSpPr/>
              <p:nvPr/>
            </p:nvGrpSpPr>
            <p:grpSpPr>
              <a:xfrm>
                <a:off x="5457960" y="1230480"/>
                <a:ext cx="1136160" cy="1122840"/>
                <a:chOff x="5457960" y="1230480"/>
                <a:chExt cx="1136160" cy="1122840"/>
              </a:xfrm>
            </p:grpSpPr>
            <p:sp>
              <p:nvSpPr>
                <p:cNvPr id="153" name="Freeform 77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" name="Freeform 78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5" name="Text Box 79"/>
              <p:cNvSpPr/>
              <p:nvPr/>
            </p:nvSpPr>
            <p:spPr>
              <a:xfrm>
                <a:off x="5413320" y="163296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6" name="Line 27"/>
            <p:cNvSpPr/>
            <p:nvPr/>
          </p:nvSpPr>
          <p:spPr>
            <a:xfrm flipH="1">
              <a:off x="2580480" y="309348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7" name="Group 36"/>
            <p:cNvGrpSpPr/>
            <p:nvPr/>
          </p:nvGrpSpPr>
          <p:grpSpPr>
            <a:xfrm>
              <a:off x="2205000" y="2494440"/>
              <a:ext cx="1223280" cy="1122840"/>
              <a:chOff x="2205000" y="2494440"/>
              <a:chExt cx="1223280" cy="1122840"/>
            </a:xfrm>
          </p:grpSpPr>
          <p:sp>
            <p:nvSpPr>
              <p:cNvPr id="158" name="Freeform 46"/>
              <p:cNvSpPr/>
              <p:nvPr/>
            </p:nvSpPr>
            <p:spPr>
              <a:xfrm>
                <a:off x="2209320" y="2494440"/>
                <a:ext cx="11386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47"/>
              <p:cNvSpPr/>
              <p:nvPr/>
            </p:nvSpPr>
            <p:spPr>
              <a:xfrm>
                <a:off x="2205000" y="276480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0" name="Freeform 31"/>
            <p:cNvSpPr/>
            <p:nvPr/>
          </p:nvSpPr>
          <p:spPr>
            <a:xfrm>
              <a:off x="3884760" y="2553480"/>
              <a:ext cx="113544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Text Box 43"/>
            <p:cNvSpPr/>
            <p:nvPr/>
          </p:nvSpPr>
          <p:spPr>
            <a:xfrm>
              <a:off x="3924360" y="256932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2" name="Group 41"/>
            <p:cNvGrpSpPr/>
            <p:nvPr/>
          </p:nvGrpSpPr>
          <p:grpSpPr>
            <a:xfrm>
              <a:off x="5358240" y="2511360"/>
              <a:ext cx="1316880" cy="1122840"/>
              <a:chOff x="5358240" y="2511360"/>
              <a:chExt cx="1316880" cy="1122840"/>
            </a:xfrm>
          </p:grpSpPr>
          <p:sp>
            <p:nvSpPr>
              <p:cNvPr id="163" name="Freeform 48"/>
              <p:cNvSpPr/>
              <p:nvPr/>
            </p:nvSpPr>
            <p:spPr>
              <a:xfrm>
                <a:off x="5433120" y="251136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Text Box 55"/>
              <p:cNvSpPr/>
              <p:nvPr/>
            </p:nvSpPr>
            <p:spPr>
              <a:xfrm>
                <a:off x="5358240" y="279432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505600" y="42962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45"/>
            <p:cNvGrpSpPr/>
            <p:nvPr/>
          </p:nvGrpSpPr>
          <p:grpSpPr>
            <a:xfrm>
              <a:off x="2205000" y="3777120"/>
              <a:ext cx="1221480" cy="1124280"/>
              <a:chOff x="2205000" y="3777120"/>
              <a:chExt cx="1221480" cy="1124280"/>
            </a:xfrm>
          </p:grpSpPr>
          <p:sp>
            <p:nvSpPr>
              <p:cNvPr id="167" name="Freeform 81"/>
              <p:cNvSpPr/>
              <p:nvPr/>
            </p:nvSpPr>
            <p:spPr>
              <a:xfrm>
                <a:off x="2236320" y="3777120"/>
                <a:ext cx="113652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82"/>
              <p:cNvSpPr/>
              <p:nvPr/>
            </p:nvSpPr>
            <p:spPr>
              <a:xfrm>
                <a:off x="2205000" y="39956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9" name="Group 48"/>
            <p:cNvGrpSpPr/>
            <p:nvPr/>
          </p:nvGrpSpPr>
          <p:grpSpPr>
            <a:xfrm>
              <a:off x="3836520" y="3777120"/>
              <a:ext cx="1221480" cy="1124280"/>
              <a:chOff x="3836520" y="3777120"/>
              <a:chExt cx="1221480" cy="1124280"/>
            </a:xfrm>
          </p:grpSpPr>
          <p:sp>
            <p:nvSpPr>
              <p:cNvPr id="170" name="Freeform 30"/>
              <p:cNvSpPr/>
              <p:nvPr/>
            </p:nvSpPr>
            <p:spPr>
              <a:xfrm>
                <a:off x="3862800" y="3777120"/>
                <a:ext cx="113688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Text Box 54"/>
              <p:cNvSpPr/>
              <p:nvPr/>
            </p:nvSpPr>
            <p:spPr>
              <a:xfrm>
                <a:off x="3836520" y="4013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2" name="Freeform 50"/>
            <p:cNvSpPr/>
            <p:nvPr/>
          </p:nvSpPr>
          <p:spPr>
            <a:xfrm>
              <a:off x="5433480" y="3770640"/>
              <a:ext cx="113688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Text Box 51"/>
            <p:cNvSpPr/>
            <p:nvPr/>
          </p:nvSpPr>
          <p:spPr>
            <a:xfrm>
              <a:off x="5413320" y="384588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Line 27"/>
            <p:cNvSpPr/>
            <p:nvPr/>
          </p:nvSpPr>
          <p:spPr>
            <a:xfrm flipH="1">
              <a:off x="2580480" y="557100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54"/>
            <p:cNvGrpSpPr/>
            <p:nvPr/>
          </p:nvGrpSpPr>
          <p:grpSpPr>
            <a:xfrm>
              <a:off x="2130120" y="5050080"/>
              <a:ext cx="1399320" cy="1122840"/>
              <a:chOff x="2130120" y="5050080"/>
              <a:chExt cx="1399320" cy="1122840"/>
            </a:xfrm>
          </p:grpSpPr>
          <p:sp>
            <p:nvSpPr>
              <p:cNvPr id="176" name="Freeform 57"/>
              <p:cNvSpPr/>
              <p:nvPr/>
            </p:nvSpPr>
            <p:spPr>
              <a:xfrm>
                <a:off x="2276640" y="5050080"/>
                <a:ext cx="113544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58"/>
              <p:cNvSpPr/>
              <p:nvPr/>
            </p:nvSpPr>
            <p:spPr>
              <a:xfrm>
                <a:off x="2130120" y="52718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57"/>
            <p:cNvGrpSpPr/>
            <p:nvPr/>
          </p:nvGrpSpPr>
          <p:grpSpPr>
            <a:xfrm>
              <a:off x="3836520" y="4986000"/>
              <a:ext cx="1221480" cy="1123200"/>
              <a:chOff x="3836520" y="4986000"/>
              <a:chExt cx="1221480" cy="1123200"/>
            </a:xfrm>
          </p:grpSpPr>
          <p:sp>
            <p:nvSpPr>
              <p:cNvPr id="179" name="Freeform 34"/>
              <p:cNvSpPr/>
              <p:nvPr/>
            </p:nvSpPr>
            <p:spPr>
              <a:xfrm>
                <a:off x="3884400" y="4986000"/>
                <a:ext cx="113544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61"/>
              <p:cNvSpPr/>
              <p:nvPr/>
            </p:nvSpPr>
            <p:spPr>
              <a:xfrm>
                <a:off x="3836520" y="527220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1" name="Group 60"/>
            <p:cNvGrpSpPr/>
            <p:nvPr/>
          </p:nvGrpSpPr>
          <p:grpSpPr>
            <a:xfrm>
              <a:off x="5433480" y="5050080"/>
              <a:ext cx="1221480" cy="1122840"/>
              <a:chOff x="5433480" y="5050080"/>
              <a:chExt cx="1221480" cy="1122840"/>
            </a:xfrm>
          </p:grpSpPr>
          <p:sp>
            <p:nvSpPr>
              <p:cNvPr id="182" name="Freeform 63"/>
              <p:cNvSpPr/>
              <p:nvPr/>
            </p:nvSpPr>
            <p:spPr>
              <a:xfrm>
                <a:off x="5452200" y="505008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Text Box 64"/>
              <p:cNvSpPr/>
              <p:nvPr/>
            </p:nvSpPr>
            <p:spPr>
              <a:xfrm>
                <a:off x="5433480" y="52718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9F7D1-D2C7-4CB9-99EC-CF03C73DA3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C3914-977B-422E-AA91-29A7BF57F6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4191120" y="5254560"/>
            <a:ext cx="4724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our Absolutes of Quality Managem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57200" y="2743200"/>
            <a:ext cx="5791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Quality is meeting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customer nee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CD8E8-141E-41A7-951A-EEB1718548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4B9FA-EB77-43D8-9F43-158F29E8F3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o is Responsible for Customer Service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2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20"/>
          <p:cNvSpPr/>
          <p:nvPr/>
        </p:nvSpPr>
        <p:spPr>
          <a:xfrm>
            <a:off x="2590920" y="3276720"/>
            <a:ext cx="4190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Everyone in the laboratory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for improving customer satisf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quir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mmitment from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knowledge of monitoring too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D3BA3-B248-41CF-B17F-517708BF53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A3650-0406-414D-B93B-02AC094826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57847-CCD3-4793-AEFC-7A11695EE4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and its Cli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3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15" name="AutoShape 9"/>
          <p:cNvSpPr/>
          <p:nvPr/>
        </p:nvSpPr>
        <p:spPr>
          <a:xfrm>
            <a:off x="3581280" y="4800600"/>
            <a:ext cx="20574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ca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6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11"/>
          <p:cNvCxnSpPr>
            <a:stCxn id="210" idx="3"/>
            <a:endCxn id="215" idx="1"/>
          </p:cNvCxnSpPr>
          <p:nvPr/>
        </p:nvCxnSpPr>
        <p:spPr>
          <a:xfrm>
            <a:off x="2437920" y="5105520"/>
            <a:ext cx="114372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8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ABCA7-B6C6-4DD6-81C6-DBDE223943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3A808-8050-4266-AF4A-CDA98FCF7B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shall be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gally identifiab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r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act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lepho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csim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4" descr="j0286448"/>
          <p:cNvPicPr/>
          <p:nvPr/>
        </p:nvPicPr>
        <p:blipFill>
          <a:blip r:embed="rId1"/>
          <a:stretch/>
        </p:blipFill>
        <p:spPr>
          <a:xfrm>
            <a:off x="4800600" y="1752480"/>
            <a:ext cx="3286080" cy="403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8:04Z</dcterms:modified>
  <cp:revision>109</cp:revision>
  <dc:subject/>
  <dc:title>Slide 1</dc:title>
</cp:coreProperties>
</file>